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151-8EA9-4141-9291-F114C0F4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CBD-D99C-4CB5-9FC5-01A6046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EE0-B9AF-418B-874F-4E92EB23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ED5-0562-4D55-A291-B3BB4BE3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76EA-FB98-4798-8A07-1D9028A5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3AAD-C248-4446-99E2-AA0717B0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44E-7C23-4C60-98DC-4B33889F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E42-C25F-4124-8C54-F8A5ECFD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588B-A9B1-4BFD-B1FF-D9BCFA26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5240-BC8B-4E9E-91F8-B2CE480D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A34E-90AF-480D-BBD1-E343C6DE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D74-B6AB-490F-BE56-7FBD00B4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9CB-E793-4F56-B4FE-F2173AD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0714-9C1D-476F-A42A-CC79E39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8B75-F2BE-4FAB-969F-0C9D05C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98E2-EB7E-4392-9FD2-6B19AFBE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FC8E-16B7-4ACD-89B6-F850E2ED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7792-4457-43D1-AE6C-C52A45B0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CA2D7-A491-4C4F-9AB6-C4D87A30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87A4-0BC6-47A0-AADA-9594F24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2EBB-D152-4064-BCFD-D5B64155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6CD2-147E-45C7-904F-CF78FFD5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BAC-7F19-46C9-A906-E959F9F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5EE56-9EDE-4C53-815A-05B7A75A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EC31-4801-4F94-94B0-74288AB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D7BA-593B-4142-8605-14B9BB89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EFF0-8E07-4F12-ACF7-CB9D125A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3579-A868-4AA4-913D-92C8EEFF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1DE3-09DC-4AAC-A3E6-6D268683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3DF5-AD32-43FA-9725-FB887CF6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F5FC-C28D-43B6-B6D6-285857A6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6D17-0CB1-4E05-B910-324D05A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B7B8-4294-4463-AF17-9890E22A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F23-02A6-4F97-A53A-E496BA9F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A2094-50DA-43F6-8C63-AB924CCD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82A8-E170-4077-9A7D-443C4CB4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6F1B-5DAA-4B9F-B122-8DC75755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A47A-EC42-403E-9D31-70A3E34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4E26-4D36-4559-918A-3AF8B7C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0DD3-7038-4385-8A2A-A801FBCC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8FC8-D2EA-47CE-9E8B-EE45A5E6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E3C9-5F62-4000-AC32-CBF71E71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E55A-F38B-4529-9713-1E3B5B06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EB73B-6DBC-4526-B79D-2376D246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A2C-9D86-48E4-BB95-7D2A8900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03BC-911F-4F4C-BC49-1DC0FB80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1D8A7-3729-4EC5-A34D-3C2E41C1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07C5F-C68A-4F06-8522-2A9D9EE1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9B0A5-BCF9-4951-AD02-339A9637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FF8B6-71FE-462A-AC31-F2CE247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FAC0-D783-4932-9AFA-A83B0B6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C4839-31DF-4C41-B336-F9377DBC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FE7A-1425-42B2-9EBA-D0EFFF0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8B48C-5D76-4A57-8B5E-7080FA97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10B01-B627-4804-91D3-3A264581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27F-B287-4E70-95A3-A31AE52B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F2245-9519-4252-94AC-FE5FE2D2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D1E37-B895-415A-A33C-0D6DE3E7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7C1CF-C209-4736-8FA3-8D0B9440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7D0B-1EF2-47A6-81CC-2D0A487B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5EA7-79D7-4833-97F8-2B0EBFB8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A7EF-DDC6-4892-A366-82F106E9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3BFE-BF62-4975-A831-ABEA74E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9589-A65B-478A-B2AF-809131FA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EAC7-E130-4704-9E57-09BF4EA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FF44B-90C9-4A73-8176-64D9F056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61E-1D33-4EA8-ABE0-D100E096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77C1A-7699-4AA5-82E1-E391A252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C76DC-3E97-4794-8548-598C9B68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BAAF-95AF-47EE-BAC7-E3C11372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2E1FE-48EB-42DB-B93D-D1FCBA8E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68495-0B01-444D-A87C-30FF11BF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3D66-5291-4BB4-8BE4-A88F0726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C3DF-F5BC-422C-8346-FADACF72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21169-CDA1-4E3C-AA13-FB5B0B1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16B10-8670-414B-AD28-860E40A3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2439-EE07-4BE3-8A68-7F95748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1A5-A160-4526-9505-D575A2E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30020-B5CB-414D-9FB5-7EB561F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2B6A4-3B8C-4F73-8EA9-88FBA9BA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5A955-FE8D-449C-AF7D-C59F5ADC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1C3EA-05AA-44A5-BFE4-BD92D785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5298-7501-4243-8154-DA33B7F6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63A-F121-4177-9B35-64F0093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D89D-0BE8-4175-996C-C5EF1E0369E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26DE-0DC2-4443-BF7D-D581F2AEEB6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02C0-795C-448E-9070-6F6ED8C3DF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351-15DF-4271-B831-933C577AB4C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FB6-E962-4361-9FF5-8B6720BAC7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E36D-3350-4964-9AE1-13728DA7D28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0D24-4A9A-4A4A-A61B-586F2AB0994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History Influences Tex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American Romantici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manticism vs. Rationalism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uition versus calcu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otion versus reas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ontaneity versus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vidualism versus social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derness versus indust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jective experience versus objective f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aphysical musing versus scientific re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Content Placeholder 4" descr="(rom5) durand.jpg"/>
          <p:cNvPicPr/>
          <p:nvPr/>
        </p:nvPicPr>
        <p:blipFill>
          <a:blip r:embed="rId1"/>
          <a:stretch/>
        </p:blipFill>
        <p:spPr>
          <a:xfrm>
            <a:off x="5676840" y="2060640"/>
            <a:ext cx="2857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nscendentalis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eveloped from Romantic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Transcendental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fers to the idea that one must transcend everyday human experience in the physical world in order to find Spiritualit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Transce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to rise above or extend notably beyond ordinary lim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160" indent="-335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idea that in determining the ultimate reality of God, the universe, the self, and other important matters, one must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ce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or go beyond, everyday human experience in the physical wor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What did Transcendentalists believe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n individual could perfect himself or hersel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erything in the whole world, including human beings, is part of the Divine Sou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276880" y="1523520"/>
            <a:ext cx="3657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physical facts of the world are only a doorway into the spiritual worl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ople must use their intuition and senses to behold the Divine Spirit and their own soul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else did Transcendentalists believe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cendentalists did not believe in following authority without ques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y resisted blind conformity to traditions, customs, and religious dog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ranscendentalist believed in individuality and sought solitude and time alone in natur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6" descr="suffragetttes"/>
          <p:cNvPicPr/>
          <p:nvPr/>
        </p:nvPicPr>
        <p:blipFill>
          <a:blip r:embed="rId1"/>
          <a:stretch/>
        </p:blipFill>
        <p:spPr>
          <a:xfrm>
            <a:off x="3657600" y="4724280"/>
            <a:ext cx="1119240" cy="1263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LK"/>
          <p:cNvPicPr/>
          <p:nvPr/>
        </p:nvPicPr>
        <p:blipFill>
          <a:blip r:embed="rId2"/>
          <a:stretch/>
        </p:blipFill>
        <p:spPr>
          <a:xfrm>
            <a:off x="1447920" y="4557600"/>
            <a:ext cx="1228680" cy="952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hippies"/>
          <p:cNvPicPr/>
          <p:nvPr/>
        </p:nvPicPr>
        <p:blipFill>
          <a:blip r:embed="rId3"/>
          <a:stretch/>
        </p:blipFill>
        <p:spPr>
          <a:xfrm>
            <a:off x="6095880" y="4724280"/>
            <a:ext cx="12956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What genres of text did the Transcendentalist write?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preferred to writ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Gill Sans MT"/>
              </a:rPr>
              <a:t>personal narratives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told the story of their own experiences when in nature and alone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wrote of their individualism and their profound belief that humans were born good and should seek to perfect themselves throughout their liv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They used imagery, figurative language and rich description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Ralph Waldo Emerson and Henry David Thoreau are famous transcendentalist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2314"/>
                </a:solidFill>
                <a:latin typeface="Gill Sans MT"/>
              </a:rPr>
              <a:t>THE DARK ROMANTICS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dgar Allen Poe, Hawthorne,  and Melville are known as anti-Transcendentalists but had much in common with Transcendentalist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ored conflicts between good and evil, psychological effects of guilt and sin, and mad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ke other Romantics, valued intuition over logic and rea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ke other Romantics, saw signs and symbols in all ev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like other Romantics, did not believe that nature is good or harml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ored the conflict between good and evil, the psychological effects of guilt and sin, and even madnes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57040"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w the horror of evil behind the thin façade of respectable socie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Content Placeholder 4" descr="(rom8) Fuseli-Nightmare.jpg"/>
          <p:cNvPicPr/>
          <p:nvPr/>
        </p:nvPicPr>
        <p:blipFill>
          <a:blip r:embed="rId1"/>
          <a:stretch/>
        </p:blipFill>
        <p:spPr>
          <a:xfrm>
            <a:off x="3048120" y="4114800"/>
            <a:ext cx="309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imed Writing: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re You Rationalist or Romantic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 you, personally, relate more closely to the values of the Rationalists or of the Romantics?  Give specific examples of political / philosophical assumptions that you share with the group you identif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C:\Users\Stephen\AppData\Local\Microsoft\Windows\Temporary Internet Files\Content.IE5\XKFOFSSB\MCBD19612_0000[1].wmf"/>
          <p:cNvPicPr/>
          <p:nvPr/>
        </p:nvPicPr>
        <p:blipFill>
          <a:blip r:embed="rId1"/>
          <a:stretch/>
        </p:blipFill>
        <p:spPr>
          <a:xfrm>
            <a:off x="5410080" y="1670040"/>
            <a:ext cx="3492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merican Romantic Period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1800 – 1860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6668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times called the American Renaissa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ever, Renaissance means “rebirth” and the American Renaissance was not the rebirth of an old style; it was a completely new, uniquely American sty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uthors were mature, innovative, and optimistic about America and individualis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Content Placeholder 6" descr="Bierstadt_LandersPeak_1863 (rom1).jpg"/>
          <p:cNvPicPr/>
          <p:nvPr/>
        </p:nvPicPr>
        <p:blipFill>
          <a:blip r:embed="rId1"/>
          <a:stretch/>
        </p:blipFill>
        <p:spPr>
          <a:xfrm>
            <a:off x="2438280" y="4100400"/>
            <a:ext cx="41911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alues of American Romanticis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erished imagination, individual feelings, and wild natur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d a realistic view of the dark side of the human spir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flected strong national pri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elieved that the individual, no matter what background or class, was to be respected for his/her personal, and unlimited, accomplishm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Content Placeholder 4" descr="(rom2) Asher_Durand_Kindred_Spirits.jpg"/>
          <p:cNvPicPr/>
          <p:nvPr/>
        </p:nvPicPr>
        <p:blipFill>
          <a:blip r:embed="rId1"/>
          <a:stretch/>
        </p:blipFill>
        <p:spPr>
          <a:xfrm>
            <a:off x="5533920" y="1523880"/>
            <a:ext cx="3143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94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merican Romanticism was a response to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404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grime and noise of the industrial 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direct contact of the population with the American wildern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wing conflict among the people regarding slave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men’s push toward equality with 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 audience of readers hungry for literature that was purely Americ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Content Placeholder 4" descr="(rom4) Cole_course_of_empire_pastoral.jpg"/>
          <p:cNvPicPr/>
          <p:nvPr/>
        </p:nvPicPr>
        <p:blipFill>
          <a:blip r:embed="rId1"/>
          <a:stretch/>
        </p:blipFill>
        <p:spPr>
          <a:xfrm>
            <a:off x="2438280" y="4191120"/>
            <a:ext cx="40388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The Progression of American Thought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MANTICS WERE DISTINCT FROM PREVIOUS AMERICANS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YET, INFLUENCED BY THESE SAME GROUPS OF AMERICAN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aw themselves as revolting against the “Age of Reason” and its value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ism rejected fiery Puritan rhetoric about religion, guilt, and salva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7000"/>
          </a:bodyPr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were moved by powerful Rationalist rhetoric about the rights of the individual and freedo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mantics searched for truth and beauty in ordinary objects or scenes, like the Purita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8016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Thomas Cole, 1840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Content Placeholder 3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1549440" y="1447920"/>
            <a:ext cx="7270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86360" y="1066680"/>
            <a:ext cx="27432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The Voyage of Life: Childhood</a:t>
            </a: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Thomas Cole, 1840 </a:t>
            </a:r>
            <a:br>
              <a:rPr sz="2400"/>
            </a:b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 (detail)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Picture Placeholder 12" descr="(rom9) Cole_Thomas_The_Voyage_of_Life_Childhood_1842.jpg"/>
          <p:cNvPicPr/>
          <p:nvPr/>
        </p:nvPicPr>
        <p:blipFill>
          <a:blip r:embed="rId1"/>
          <a:stretch/>
        </p:blipFill>
        <p:spPr>
          <a:xfrm>
            <a:off x="841320" y="124308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Gill Sans MT"/>
              </a:rPr>
              <a:t>How does this painting depict childhood.  Consider both what it shows (denotation) and what it implies (connotation).  You have five minutes to write.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Characteristics of Romantic text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ssionate and emotion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ntimen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metimes deal with the supernat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haracters are often larger-than-life and aristocratic—sometimes stock characters are us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stinctions between upper and lower class charac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lloquial language and setting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Content Placeholder 10" descr="(rom6) Cole.jpg"/>
          <p:cNvPicPr/>
          <p:nvPr/>
        </p:nvPicPr>
        <p:blipFill>
          <a:blip r:embed="rId1"/>
          <a:stretch/>
        </p:blipFill>
        <p:spPr>
          <a:xfrm>
            <a:off x="5346720" y="1523880"/>
            <a:ext cx="3517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ore characteristics of Romantic tex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Content Placeholder 8" descr="(rom8) Simmonds_Ophelia.jpg"/>
          <p:cNvPicPr/>
          <p:nvPr/>
        </p:nvPicPr>
        <p:blipFill>
          <a:blip r:embed="rId1"/>
          <a:stretch/>
        </p:blipFill>
        <p:spPr>
          <a:xfrm>
            <a:off x="1219320" y="144792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ten written in third-person omniscient with the author/narrator interrupting to moralize or guide the read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nse, with strong rising action leading to a dramatic clim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mbolic, allegor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w life as it might have been or might be rather than average life as it was during the author’s life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7:14:46Z</dcterms:created>
  <dc:creator>Carrie Danielson</dc:creator>
  <dc:description/>
  <dc:language>en-US</dc:language>
  <cp:lastModifiedBy>michelle.clark-cadwe</cp:lastModifiedBy>
  <dcterms:modified xsi:type="dcterms:W3CDTF">2014-01-15T18:12:49Z</dcterms:modified>
  <cp:revision>30</cp:revision>
  <dc:subject/>
  <dc:title>Historical Influence on Tex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